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-1295280" y="2573280"/>
            <a:ext cx="4724640" cy="1828800"/>
          </a:xfrm>
          <a:prstGeom prst="flowChartOffpageConnector">
            <a:avLst/>
          </a:prstGeom>
          <a:solidFill>
            <a:srgbClr val="ffffff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0120" y="1887480"/>
            <a:ext cx="1295280" cy="335772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Sal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7960" y="1214280"/>
            <a:ext cx="2462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Sviluppo delle </a:t>
            </a:r>
            <a:br>
              <a:rPr sz="1000"/>
            </a:b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offerte di promozione </a:t>
            </a:r>
            <a:br>
              <a:rPr sz="1000"/>
            </a:b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della sal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2496960"/>
            <a:ext cx="24620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Patrocinio degli interes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Collaborazione tra le </a:t>
            </a:r>
            <a:br>
              <a:rPr sz="1000"/>
            </a:b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organizzazio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7960" y="3639960"/>
            <a:ext cx="2462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Mobilitazione soc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37960" y="4782960"/>
            <a:ext cx="181944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Sviluppo del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competenz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person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33720" y="1297080"/>
            <a:ext cx="2627280" cy="10476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B1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Offerte di promozione della salu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133720" y="2421000"/>
            <a:ext cx="2627280" cy="10476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B2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Strategie di promozione della salute</a:t>
            </a:r>
            <a:br>
              <a:rPr sz="1000"/>
            </a:b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 a livello politico e istituzion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133720" y="3564000"/>
            <a:ext cx="2627280" cy="10476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B3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Potenziale sociale e impegno a </a:t>
            </a:r>
            <a:br>
              <a:rPr sz="1000"/>
            </a:b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  favore della salut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133720" y="4707000"/>
            <a:ext cx="2627280" cy="10476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B4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Competenze individuali favorevoli alla salute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859280" y="1557360"/>
            <a:ext cx="2666880" cy="115236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marL="190440" indent="-19044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C1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Ambiente fisico favorevole alla salu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876920" y="2878200"/>
            <a:ext cx="2666880" cy="125568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C2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Ambiente sociale/societale   </a:t>
            </a:r>
            <a:br>
              <a:rPr sz="1000"/>
            </a:b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  favorevole alla salute</a:t>
            </a: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4876920" y="4249800"/>
            <a:ext cx="2666880" cy="125568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marL="190440" indent="-19044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C3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Risorse personali e modelli di   </a:t>
            </a:r>
            <a:br>
              <a:rPr sz="1000"/>
            </a:br>
            <a:r>
              <a:rPr b="1" lang="it-IT" sz="1000" spc="-1" strike="noStrike">
                <a:solidFill>
                  <a:srgbClr val="c0c0c0"/>
                </a:solidFill>
                <a:latin typeface="Arial"/>
              </a:rPr>
              <a:t>  comportamento favorevoli alla salute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0000"/>
              <a:buFont typeface="Arial"/>
              <a:buChar char="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50000"/>
              <a:buFont typeface="Arial"/>
              <a:buChar char="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SzPct val="40000"/>
              <a:buFont typeface="Arial"/>
              <a:buChar char="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694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9900"/>
                </a:solidFill>
                <a:latin typeface="Arial"/>
              </a:rPr>
              <a:t>Modello causa-effetto del progetto</a:t>
            </a:r>
            <a:br>
              <a:rPr sz="2000"/>
            </a:br>
            <a:r>
              <a:rPr b="1" lang="de-CH" sz="1400" spc="-1" strike="noStrike">
                <a:solidFill>
                  <a:srgbClr val="ff9900"/>
                </a:solidFill>
                <a:latin typeface="Arial"/>
              </a:rPr>
              <a:t>(Base: Modello di classificazione dei risultati di Promozione Salute Svizzera )</a:t>
            </a:r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458200" y="6056280"/>
            <a:ext cx="4572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5950080"/>
            <a:ext cx="1727280" cy="23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Obiettivo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6381720"/>
            <a:ext cx="1727280" cy="23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Obiettivo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56000" y="5950080"/>
            <a:ext cx="1440000" cy="231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Visione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6381720"/>
            <a:ext cx="1440000" cy="231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Visione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5950080"/>
            <a:ext cx="1727280" cy="231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Intervento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6381720"/>
            <a:ext cx="1727280" cy="231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Intervento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5877000"/>
            <a:ext cx="2808360" cy="8510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900" spc="-1" strike="noStrike">
                <a:solidFill>
                  <a:srgbClr val="000000"/>
                </a:solidFill>
                <a:latin typeface="Arial"/>
              </a:rPr>
              <a:t>Informazione: </a:t>
            </a:r>
            <a:br>
              <a:rPr sz="900"/>
            </a:br>
            <a:r>
              <a:rPr b="0" lang="it-CH" sz="900" spc="-1" strike="noStrike">
                <a:solidFill>
                  <a:srgbClr val="000000"/>
                </a:solidFill>
                <a:latin typeface="Arial"/>
              </a:rPr>
              <a:t>  -  Le caselle possono essere modificate, spostate, ingrandite oppure copiate a scelta.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CH" sz="900" spc="-1" strike="noStrike">
                <a:solidFill>
                  <a:srgbClr val="000000"/>
                </a:solidFill>
                <a:latin typeface="Arial"/>
              </a:rPr>
              <a:t>Le frecce di connesione possono essere aggiunte utilizzando la lista dei simboli PowerPoi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7" idx="3"/>
            <a:endCxn id="53" idx="1"/>
          </p:cNvCxnSpPr>
          <p:nvPr/>
        </p:nvCxnSpPr>
        <p:spPr>
          <a:xfrm>
            <a:off x="1906560" y="6065640"/>
            <a:ext cx="362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765000"/>
            <a:ext cx="8763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9900"/>
                </a:solidFill>
                <a:latin typeface="Arial"/>
              </a:rPr>
              <a:t>Referenza</a:t>
            </a:r>
            <a:br>
              <a:rPr sz="2400"/>
            </a:br>
            <a:r>
              <a:rPr b="1" lang="de-CH" sz="1600" spc="-1" strike="noStrike">
                <a:solidFill>
                  <a:srgbClr val="ff9900"/>
                </a:solidFill>
                <a:latin typeface="Arial"/>
              </a:rPr>
              <a:t>Il modello di classificazione dei risultati di Promozione Salute Svizzera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43640" y="27000"/>
            <a:ext cx="2693880" cy="1025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6200000">
            <a:off x="-1333080" y="3161880"/>
            <a:ext cx="4724280" cy="1752840"/>
          </a:xfrm>
          <a:prstGeom prst="flowChartOffpageConnector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2438280"/>
            <a:ext cx="1295280" cy="3357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Sal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- Maggiore speranza di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vita in buona salu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- Migliore qualità di </a:t>
            </a:r>
            <a:br>
              <a:rPr sz="900"/>
            </a:b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vita in termini di salu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ino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- morbilità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- mortalità precoce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7960" y="1765440"/>
            <a:ext cx="2462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viluppo delle 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fferte di 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omozione 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ella salu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048120"/>
            <a:ext cx="14479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trocinio degli 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interess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zione tra 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e organizzazion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7960" y="4191120"/>
            <a:ext cx="2462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obilitazione 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7960" y="5334120"/>
            <a:ext cx="181944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viluppo delle 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enz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ali</a:t>
            </a:r>
            <a:r>
              <a:rPr b="0" lang="de-CH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1847880"/>
            <a:ext cx="2779920" cy="1047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fferte di promozione della salu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torietà dell’offer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ibilità dell’offerta e raggiungimento del targ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zo dell’offerta e grado di soddisf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ncoraggio dell’offer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glioramento delle competenze specialistiche dei </a:t>
            </a:r>
            <a:br>
              <a:rPr sz="800"/>
            </a:b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moltiplicato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2971800"/>
            <a:ext cx="2779920" cy="1047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e di promozione della salu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livello politico e istituziona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zione vincolante dei detentori del potere </a:t>
            </a:r>
            <a:br>
              <a:rPr sz="800"/>
            </a:b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decisi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ti scritti vincolanti, rilevanti a livello pra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ambiamenti organizzativi funzional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cambi di informazioni e cooperazione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4114800"/>
            <a:ext cx="2779920" cy="1047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3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tenziale sociale e impegno a favore d. salu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za di gruppi attiv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zione di nuovi atto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torietà dell’iniziativa presso i gruppi della </a:t>
            </a:r>
            <a:br>
              <a:rPr sz="800"/>
            </a:b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popol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Grado di accettazione dell’iniziativa presso i gruppi  </a:t>
            </a:r>
            <a:br>
              <a:rPr sz="800"/>
            </a:b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della popol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257800"/>
            <a:ext cx="2779920" cy="1047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4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enze individuali favorevoli alla      </a:t>
            </a:r>
            <a:br>
              <a:rPr sz="900"/>
            </a:b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salute</a:t>
            </a: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zioni concrete in merito alla procedura e  </a:t>
            </a:r>
            <a:br>
              <a:rPr sz="800"/>
            </a:b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all’argomento scel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pproccio positivo verso l’argo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uove capacità personali e/o soci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iù fiducia in sé stes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2133720"/>
            <a:ext cx="2666880" cy="11523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mbiente fisico favorevole alla salute</a:t>
            </a:r>
            <a:br>
              <a:rPr sz="900"/>
            </a:b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iduzione degli influssi fisici e chimici </a:t>
            </a:r>
            <a:br>
              <a:rPr sz="800"/>
            </a:b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danno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nservazione e miglioramento delle risorse </a:t>
            </a:r>
            <a:br>
              <a:rPr sz="800"/>
            </a:b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natur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nfrastrutture e prodotti favorevoli alla salute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3429000"/>
            <a:ext cx="2666880" cy="12556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mbiente sociale/societale favorevole</a:t>
            </a:r>
            <a:br>
              <a:rPr sz="900"/>
            </a:b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alla salute</a:t>
            </a:r>
            <a:r>
              <a:rPr b="1" lang="de-CH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ppoggio, reti e integrazione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lima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 alle risorse sociali generali</a:t>
            </a: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4800600"/>
            <a:ext cx="2666880" cy="12556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C3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Risorse personali e modelli di </a:t>
            </a:r>
            <a:br>
              <a:rPr sz="900"/>
            </a:b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comportamento favorevoli alla salute</a:t>
            </a:r>
            <a:r>
              <a:rPr b="1" lang="de-CH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isorse personali favorevoli alla salu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glioramento di comportamenti e modelli   </a:t>
            </a:r>
            <a:br>
              <a:rPr sz="800"/>
            </a:br>
            <a:r>
              <a:rPr b="0" lang="it-IT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comportamentali rilevanti ai fini della salu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0:28:00Z</dcterms:created>
  <dc:creator>Sabine Dufaux</dc:creator>
  <dc:description/>
  <dc:language>en-US</dc:language>
  <cp:lastModifiedBy>dm</cp:lastModifiedBy>
  <dcterms:modified xsi:type="dcterms:W3CDTF">2007-09-28T14:30:19Z</dcterms:modified>
  <cp:revision>20</cp:revision>
  <dc:subject/>
  <dc:title>Présentation PowerPoint</dc:title>
</cp:coreProperties>
</file>