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7960" y="1214280"/>
            <a:ext cx="2462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Entwickl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gesundheitsfördernd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Angeb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496960"/>
            <a:ext cx="24620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Interessenvertret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Zusammenarbei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Organisatio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7960" y="3639960"/>
            <a:ext cx="24624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Soziale Mobilis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7960" y="4782960"/>
            <a:ext cx="18194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Entwicklu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persönlich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Kompetenz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1296000" y="2574000"/>
            <a:ext cx="4724640" cy="1827360"/>
          </a:xfrm>
          <a:prstGeom prst="flowChartOffpageConnector">
            <a:avLst/>
          </a:prstGeom>
          <a:solidFill>
            <a:srgbClr val="ffffff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69080" y="1887480"/>
            <a:ext cx="1295640" cy="335772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c0c0c0"/>
                </a:solidFill>
                <a:latin typeface="Arial"/>
              </a:rPr>
              <a:t>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7960" y="1214280"/>
            <a:ext cx="11336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c0c0c0"/>
                </a:solidFill>
                <a:latin typeface="Arial"/>
                <a:ea typeface="Arial"/>
              </a:rPr>
              <a:t>Développ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c0c0c0"/>
                </a:solidFill>
                <a:latin typeface="Arial"/>
                <a:ea typeface="Arial"/>
              </a:rPr>
              <a:t>d’offres de</a:t>
            </a:r>
            <a:br>
              <a:rPr sz="1000"/>
            </a:br>
            <a:r>
              <a:rPr b="0" lang="fr-FR" sz="1000" spc="-1" strike="noStrike">
                <a:solidFill>
                  <a:srgbClr val="c0c0c0"/>
                </a:solidFill>
                <a:latin typeface="Arial"/>
                <a:ea typeface="Arial"/>
              </a:rPr>
              <a:t>promo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c0c0c0"/>
                </a:solidFill>
                <a:latin typeface="Arial"/>
                <a:ea typeface="Times New Roman"/>
              </a:rPr>
              <a:t>de la santé</a:t>
            </a: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2496960"/>
            <a:ext cx="24620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c0c0c0"/>
                </a:solidFill>
                <a:latin typeface="Arial"/>
                <a:ea typeface="Times New Roman"/>
              </a:rPr>
              <a:t>Représen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c0c0c0"/>
                </a:solidFill>
                <a:latin typeface="Arial"/>
                <a:ea typeface="Times New Roman"/>
              </a:rPr>
              <a:t>d'intérêts,</a:t>
            </a:r>
            <a:br>
              <a:rPr sz="1000"/>
            </a:br>
            <a:r>
              <a:rPr b="0" lang="fr-FR" sz="1000" spc="-1" strike="noStrike">
                <a:solidFill>
                  <a:srgbClr val="c0c0c0"/>
                </a:solidFill>
                <a:latin typeface="Arial"/>
                <a:ea typeface="Times New Roman"/>
              </a:rPr>
              <a:t>collaboration ent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c0c0c0"/>
                </a:solidFill>
                <a:latin typeface="Arial"/>
                <a:ea typeface="Times New Roman"/>
              </a:rPr>
              <a:t>organisations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37960" y="3639960"/>
            <a:ext cx="16700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c0c0c0"/>
                </a:solidFill>
                <a:latin typeface="Arial"/>
              </a:rPr>
              <a:t>Mobilisation soc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7960" y="4782960"/>
            <a:ext cx="18194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c0c0c0"/>
                </a:solidFill>
                <a:latin typeface="Arial"/>
                <a:ea typeface="Arial"/>
              </a:rPr>
              <a:t>Développ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c0c0c0"/>
                </a:solidFill>
                <a:latin typeface="Arial"/>
                <a:ea typeface="Arial"/>
              </a:rPr>
              <a:t>de compéten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c0c0c0"/>
                </a:solidFill>
                <a:latin typeface="Arial"/>
                <a:ea typeface="Arial"/>
              </a:rPr>
              <a:t>personn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055960" y="2421000"/>
            <a:ext cx="2660400" cy="10476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3618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2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fr-FR" sz="900" spc="-1" strike="noStrike">
                <a:solidFill>
                  <a:srgbClr val="c0c0c0"/>
                </a:solidFill>
                <a:latin typeface="Arial"/>
                <a:ea typeface="Arial"/>
              </a:rPr>
              <a:t>Stratégies de promotion de la santé dans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900" spc="-1" strike="noStrike">
                <a:solidFill>
                  <a:srgbClr val="c0c0c0"/>
                </a:solidFill>
                <a:latin typeface="Arial"/>
                <a:ea typeface="Arial"/>
              </a:rPr>
              <a:t>la politique et les institutions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055960" y="3564000"/>
            <a:ext cx="2660400" cy="101736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3618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3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fr-FR" sz="900" spc="-1" strike="noStrike">
                <a:solidFill>
                  <a:srgbClr val="c0c0c0"/>
                </a:solidFill>
                <a:latin typeface="Arial"/>
                <a:ea typeface="Times New Roman"/>
              </a:rPr>
              <a:t>Potentiel social et engagement favorable à la santé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050920" y="4724280"/>
            <a:ext cx="2684520" cy="108108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Autofit/>
          </a:bodyPr>
          <a:p>
            <a:pPr marL="3618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4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fr-FR" sz="900" spc="-1" strike="noStrike">
                <a:solidFill>
                  <a:srgbClr val="c0c0c0"/>
                </a:solidFill>
                <a:latin typeface="Arial"/>
                <a:ea typeface="Times New Roman"/>
              </a:rPr>
              <a:t>Compétences individuelles favorables à la santé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859280" y="1628640"/>
            <a:ext cx="2665440" cy="115272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1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c0c0c0"/>
                </a:solidFill>
                <a:latin typeface="Arial"/>
                <a:ea typeface="Times New Roman"/>
              </a:rPr>
              <a:t>Environnement physique favorable </a:t>
            </a:r>
            <a:br>
              <a:rPr sz="900"/>
            </a:br>
            <a:r>
              <a:rPr b="1" lang="fr-FR" sz="900" spc="-1" strike="noStrike">
                <a:solidFill>
                  <a:srgbClr val="c0c0c0"/>
                </a:solidFill>
                <a:latin typeface="Arial"/>
                <a:ea typeface="Times New Roman"/>
              </a:rPr>
              <a:t>    à la santé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859280" y="2894040"/>
            <a:ext cx="2665440" cy="125568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2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c0c0c0"/>
                </a:solidFill>
                <a:latin typeface="Arial"/>
                <a:ea typeface="Times New Roman"/>
              </a:rPr>
              <a:t>Environnement social favorable </a:t>
            </a:r>
            <a:br>
              <a:rPr sz="900"/>
            </a:br>
            <a:r>
              <a:rPr b="1" lang="fr-FR" sz="900" spc="-1" strike="noStrike">
                <a:solidFill>
                  <a:srgbClr val="c0c0c0"/>
                </a:solidFill>
                <a:latin typeface="Arial"/>
                <a:ea typeface="Times New Roman"/>
              </a:rPr>
              <a:t>        à la santé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859280" y="4221000"/>
            <a:ext cx="2665440" cy="12560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C3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c0c0c0"/>
                </a:solidFill>
                <a:latin typeface="Arial"/>
                <a:ea typeface="Times New Roman"/>
              </a:rPr>
              <a:t>Ressources personnelles et types de  </a:t>
            </a:r>
            <a:br>
              <a:rPr sz="900"/>
            </a:br>
            <a:r>
              <a:rPr b="1" lang="fr-FR" sz="900" spc="-1" strike="noStrike">
                <a:solidFill>
                  <a:srgbClr val="c0c0c0"/>
                </a:solidFill>
                <a:latin typeface="Arial"/>
                <a:ea typeface="Times New Roman"/>
              </a:rPr>
              <a:t>    comportement favorables à la santé</a:t>
            </a:r>
            <a:r>
              <a:rPr b="1" lang="de-CH" sz="9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805040" y="1353960"/>
            <a:ext cx="328680" cy="76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054160" y="1268280"/>
            <a:ext cx="2660760" cy="100836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 marL="3618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c0c0c0"/>
                </a:solidFill>
                <a:latin typeface="Arial"/>
              </a:rPr>
              <a:t>B1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de-CH" sz="1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fr-FR" sz="900" spc="-1" strike="noStrike">
                <a:solidFill>
                  <a:srgbClr val="c0c0c0"/>
                </a:solidFill>
                <a:latin typeface="Arial"/>
              </a:rPr>
              <a:t>Offres en matière de promotion de la santé</a:t>
            </a:r>
            <a:r>
              <a:rPr b="0" lang="fr-FR" sz="12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Arial"/>
              <a:buChar char="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50000"/>
              <a:buFont typeface="Arial"/>
              <a:buChar char="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SzPct val="40000"/>
              <a:buFont typeface="Arial"/>
              <a:buChar char="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374400"/>
            <a:ext cx="85694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00"/>
                </a:solidFill>
                <a:latin typeface="Arial"/>
              </a:rPr>
              <a:t>Le modèle d‘impact du projet</a:t>
            </a:r>
            <a:br>
              <a:rPr sz="2000"/>
            </a:br>
            <a:r>
              <a:rPr b="1" lang="de-CH" sz="1400" spc="-1" strike="noStrike">
                <a:solidFill>
                  <a:srgbClr val="ff9900"/>
                </a:solidFill>
                <a:latin typeface="Arial"/>
              </a:rPr>
              <a:t>(selon le modèle de catégorisation des résultats de Promotion Santé Suisse)</a:t>
            </a:r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6056280"/>
            <a:ext cx="4572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5950080"/>
            <a:ext cx="172728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Objectif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6381720"/>
            <a:ext cx="172728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Objectif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5950080"/>
            <a:ext cx="1440000" cy="231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ision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6381720"/>
            <a:ext cx="1440000" cy="231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Vision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5950080"/>
            <a:ext cx="1727280" cy="231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Mesur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6381720"/>
            <a:ext cx="1727280" cy="2311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Mesur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5877000"/>
            <a:ext cx="2808360" cy="8510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Indications pour l‘utilisation :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-  Les cases se laissent déplacer, modifier et copier selon vos beso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-  On peut poser des flèches avec la barre d‘outils „dessin“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1906200" y="6068520"/>
            <a:ext cx="36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34760"/>
            <a:ext cx="8763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ff9900"/>
                </a:solidFill>
                <a:latin typeface="Arial"/>
              </a:rPr>
              <a:t>La référence</a:t>
            </a:r>
            <a:br>
              <a:rPr sz="2200"/>
            </a:br>
            <a:r>
              <a:rPr b="1" lang="de-CH" sz="1400" spc="-1" strike="noStrike">
                <a:solidFill>
                  <a:srgbClr val="ff9900"/>
                </a:solidFill>
                <a:latin typeface="Arial"/>
              </a:rPr>
              <a:t>Le modèle de catégorisation des résultats de Promotion Santé Suisse avec ses sous-catégories</a:t>
            </a:r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-1485720" y="3295080"/>
            <a:ext cx="4724280" cy="1447920"/>
          </a:xfrm>
          <a:prstGeom prst="flowChartOffpageConnector">
            <a:avLst/>
          </a:prstGeom>
          <a:solidFill>
            <a:srgbClr val="ffffff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438280"/>
            <a:ext cx="1295280" cy="3357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- Augmentation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l'espérance de vie 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bonne santé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Amélioration de l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é de vi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 Diminution de l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orbidité et de l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ortalité (liée à 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acteurs de risques)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7960" y="1765440"/>
            <a:ext cx="113364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Développ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d’offres d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promo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santé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048120"/>
            <a:ext cx="24620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résen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'intérêts,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 ent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ations</a:t>
            </a: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7960" y="4191120"/>
            <a:ext cx="98136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Mobilis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Arial"/>
              </a:rPr>
              <a:t>soc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7960" y="5334120"/>
            <a:ext cx="181944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Développ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de compéten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personn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819520"/>
            <a:ext cx="3276360" cy="11998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tratégies de promotion de la santé dans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        la politique et 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es institutio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ngagement ferme de décideurs et/ou de personnalités cl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Bases écrites contraignantes pour des actions significativ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organisationnelles fonctionnell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changes et coopérations efficac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114800"/>
            <a:ext cx="3276360" cy="1295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3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el social et engagement favorable à la santé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e de groupes actifs chargés des questions de   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promotion de la san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 de nouveaux acteu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iffusion des questions de promotion de la santé auprès de groupes de la popul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ion des questions de santé par des groupes dans la popul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5486400"/>
            <a:ext cx="3276360" cy="8953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4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mpétences individuelles favorables à la santé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naissance des processus/des thè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ttitude positive par rapport au thè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ouvelles aptitudes personnelles et/ou soc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enforcement de la confiance en soi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133720"/>
            <a:ext cx="2666880" cy="11523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nement physique favorable 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à la santé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éduction des influences physiques et  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chimiques nociv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mélioration des ressources naturel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3.   Installations et produits favorables à la san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429000"/>
            <a:ext cx="2666880" cy="1255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nement social favorable 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à la santé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outien social/réseaux/intég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limat 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ccès aux ressources sociales génér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4800600"/>
            <a:ext cx="2666880" cy="1255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essources personnelles et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types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de  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comportement favorables à la santé</a:t>
            </a: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Ressources personnelles favorables à la 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 sant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mélioration des comportements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favorables à la santé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6056280"/>
            <a:ext cx="4572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1905120"/>
            <a:ext cx="38124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1676520"/>
            <a:ext cx="3276360" cy="1066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Offres en matière de promotion de la santé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otoriété de l’off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ibilité de l’offre et atteinte des groupes ci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Utilisation de l’offre et satisfaction des utilisateu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fr-F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érennisation de l’off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5.  A 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élioration des compétences prof. des multiplicateurs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443640" y="27000"/>
            <a:ext cx="26938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28:00Z</dcterms:created>
  <dc:creator>Sabine Dufaux</dc:creator>
  <dc:description/>
  <dc:language>en-US</dc:language>
  <cp:lastModifiedBy>Günter Ackermann</cp:lastModifiedBy>
  <dcterms:modified xsi:type="dcterms:W3CDTF">2007-09-28T13:46:45Z</dcterms:modified>
  <cp:revision>19</cp:revision>
  <dc:subject/>
  <dc:title>Présentation PowerPoint</dc:title>
</cp:coreProperties>
</file>