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 rot="16200000">
            <a:off x="-1295280" y="2573280"/>
            <a:ext cx="4724640" cy="1828800"/>
          </a:xfrm>
          <a:prstGeom prst="flowChartOffpageConnector">
            <a:avLst/>
          </a:prstGeom>
          <a:solidFill>
            <a:srgbClr val="ffffff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7620120" y="1887480"/>
            <a:ext cx="1295280" cy="335772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c0c0c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7"/>
          <p:cNvSpPr/>
          <p:nvPr/>
        </p:nvSpPr>
        <p:spPr>
          <a:xfrm>
            <a:off x="237960" y="1214280"/>
            <a:ext cx="2462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Development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health promot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8"/>
          <p:cNvSpPr/>
          <p:nvPr/>
        </p:nvSpPr>
        <p:spPr>
          <a:xfrm>
            <a:off x="228600" y="2496960"/>
            <a:ext cx="24620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Advocacy, co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of organiz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>
            <a:off x="237960" y="3639960"/>
            <a:ext cx="2462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Social mobilis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237960" y="4782960"/>
            <a:ext cx="18194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Development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individual ski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1"/>
          <p:cNvSpPr/>
          <p:nvPr/>
        </p:nvSpPr>
        <p:spPr>
          <a:xfrm>
            <a:off x="2133720" y="129708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1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Health promo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2"/>
          <p:cNvSpPr/>
          <p:nvPr/>
        </p:nvSpPr>
        <p:spPr>
          <a:xfrm>
            <a:off x="2133720" y="242100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2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Health promoting public policy and   </a:t>
            </a:r>
            <a:br>
              <a:rPr sz="900"/>
            </a:b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  organizational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23"/>
          <p:cNvSpPr/>
          <p:nvPr/>
        </p:nvSpPr>
        <p:spPr>
          <a:xfrm>
            <a:off x="2133720" y="356400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3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Health promoting social potential and </a:t>
            </a:r>
            <a:br>
              <a:rPr sz="900"/>
            </a:b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  commit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4"/>
          <p:cNvSpPr/>
          <p:nvPr/>
        </p:nvSpPr>
        <p:spPr>
          <a:xfrm>
            <a:off x="2133720" y="470700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4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Health-related life ski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25"/>
          <p:cNvSpPr/>
          <p:nvPr/>
        </p:nvSpPr>
        <p:spPr>
          <a:xfrm>
            <a:off x="4876920" y="1582560"/>
            <a:ext cx="2666880" cy="115272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1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Health promoting physical environ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26"/>
          <p:cNvSpPr/>
          <p:nvPr/>
        </p:nvSpPr>
        <p:spPr>
          <a:xfrm>
            <a:off x="4876920" y="2878200"/>
            <a:ext cx="2666880" cy="125568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2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Health promoting social/societal </a:t>
            </a:r>
            <a:br>
              <a:rPr sz="900"/>
            </a:b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  environ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27"/>
          <p:cNvSpPr/>
          <p:nvPr/>
        </p:nvSpPr>
        <p:spPr>
          <a:xfrm>
            <a:off x="4876920" y="4249800"/>
            <a:ext cx="2666880" cy="125568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3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Health promoting individual resources and </a:t>
            </a:r>
            <a:br>
              <a:rPr sz="900"/>
            </a:br>
            <a:r>
              <a:rPr b="0" lang="de-CH" sz="900" spc="-1" strike="noStrike">
                <a:solidFill>
                  <a:srgbClr val="c0c0c0"/>
                </a:solidFill>
                <a:latin typeface="Arial"/>
              </a:rPr>
              <a:t>  behavioural patter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694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00"/>
                </a:solidFill>
                <a:latin typeface="Arial"/>
              </a:rPr>
              <a:t>Outcome model of the project</a:t>
            </a:r>
            <a:br>
              <a:rPr sz="2000"/>
            </a:br>
            <a:r>
              <a:rPr b="1" lang="de-CH" sz="1400" spc="-1" strike="noStrike">
                <a:solidFill>
                  <a:srgbClr val="ff9900"/>
                </a:solidFill>
                <a:latin typeface="Arial"/>
              </a:rPr>
              <a:t>(Base: Swiss Model for Outcome Classification (SMOC) – Health Promotion Switzerland</a:t>
            </a:r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8458200" y="6056280"/>
            <a:ext cx="4572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2268360" y="5950080"/>
            <a:ext cx="172728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2268360" y="6381720"/>
            <a:ext cx="172728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4356000" y="5950080"/>
            <a:ext cx="1440000" cy="231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ision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4356000" y="6381720"/>
            <a:ext cx="1440000" cy="231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isio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79280" y="5950080"/>
            <a:ext cx="1727280" cy="231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Measur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179280" y="6381720"/>
            <a:ext cx="1727280" cy="231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Measur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6300720" y="5877000"/>
            <a:ext cx="2808360" cy="8510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Information: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-  You can  displace, copy, enlarge the boxes as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   you lik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-  Flashes can be added by using Powerpoint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   Toolba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31"/>
          <p:cNvCxnSpPr>
            <a:stCxn id="55" idx="3"/>
            <a:endCxn id="51" idx="1"/>
          </p:cNvCxnSpPr>
          <p:nvPr/>
        </p:nvCxnSpPr>
        <p:spPr>
          <a:xfrm>
            <a:off x="1906560" y="6065640"/>
            <a:ext cx="362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8458200" y="6056280"/>
            <a:ext cx="4572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65000"/>
            <a:ext cx="8763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9900"/>
                </a:solidFill>
                <a:latin typeface="Arial"/>
              </a:rPr>
              <a:t>Reference</a:t>
            </a:r>
            <a:br>
              <a:rPr sz="2400"/>
            </a:br>
            <a:r>
              <a:rPr b="1" lang="de-CH" sz="1600" spc="-1" strike="noStrike">
                <a:solidFill>
                  <a:srgbClr val="ff9900"/>
                </a:solidFill>
                <a:latin typeface="Arial"/>
              </a:rPr>
              <a:t>Swiss Model for Outcome Classification (SMOC)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1"/>
          <a:stretch/>
        </p:blipFill>
        <p:spPr>
          <a:xfrm>
            <a:off x="6443640" y="27000"/>
            <a:ext cx="2693880" cy="1025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2"/>
          <p:cNvSpPr/>
          <p:nvPr/>
        </p:nvSpPr>
        <p:spPr>
          <a:xfrm rot="16200000">
            <a:off x="-1371240" y="3200040"/>
            <a:ext cx="4724280" cy="1676520"/>
          </a:xfrm>
          <a:prstGeom prst="flowChartOffpageConnector">
            <a:avLst/>
          </a:prstGeom>
          <a:solidFill>
            <a:srgbClr val="ff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7620120" y="2438280"/>
            <a:ext cx="1295280" cy="3357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Increased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- healthy life expect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of life in terms </a:t>
            </a:r>
            <a:br>
              <a:rPr sz="800"/>
            </a:br>
            <a:r>
              <a:rPr b="0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of health</a:t>
            </a:r>
            <a:br>
              <a:rPr sz="800"/>
            </a:b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</a:t>
            </a:r>
            <a:br>
              <a:rPr sz="800"/>
            </a:br>
            <a:r>
              <a:rPr b="0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morbidity</a:t>
            </a:r>
            <a:br>
              <a:rPr sz="800"/>
            </a:br>
            <a:r>
              <a:rPr b="0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emature mort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237960" y="1765440"/>
            <a:ext cx="2462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Development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health promot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228600" y="3048120"/>
            <a:ext cx="24620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dvocacy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operation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s</a:t>
            </a:r>
            <a:r>
              <a:rPr b="1" lang="de-CH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237960" y="4191120"/>
            <a:ext cx="2462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Social mob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237960" y="5334120"/>
            <a:ext cx="181944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  <a:ea typeface="Arial"/>
              </a:rPr>
              <a:t>Development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  <a:ea typeface="Arial"/>
              </a:rPr>
              <a:t>individual ski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1981080" y="1676520"/>
            <a:ext cx="2779920" cy="1143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promoting servic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Awareness of the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ibility of the service and reaching of target groups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se of the service and satisfaction with it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ustainability of the service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professionalism in health promotion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2895480"/>
            <a:ext cx="2779920" cy="11239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-promoting public policy </a:t>
            </a:r>
            <a:br>
              <a:rPr sz="900"/>
            </a:br>
            <a:r>
              <a:rPr b="1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nd organizational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 engagement of decision-makers and/or key persons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-relevant, binding doc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ful organizational changes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ful exchange and cooperation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4114800"/>
            <a:ext cx="2779920" cy="1047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B3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P social potential and commitmen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of active groups focusing on health-promoting concerns or themes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nlisting of new players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wareness of the concern by population group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ance of a concern by population group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1981080" y="5257800"/>
            <a:ext cx="2779920" cy="1143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10800" bIns="10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B4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-related life skills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Factual health-relevant knowledge and capacity to act on knowledge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 attitudes and intentions towards a health-relevant top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ew personal and/or social skills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trengthened self-confidence regarding a health-relevant topic or an activ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4876920" y="2133720"/>
            <a:ext cx="2666880" cy="11523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promoting physical environment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pollution caused by physical-chemical influenc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tion and improvement of natural resources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-promoting installations and produc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4876920" y="3429000"/>
            <a:ext cx="2666880" cy="1255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promoting social environ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support, social networks, social integration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climate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access to general social resources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4876920" y="4800600"/>
            <a:ext cx="2666880" cy="1255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C3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Health promoting individual resources and behavioural patter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-promoting individual skills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health-relevant behaviour and patterns of behaviour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28:00Z</dcterms:created>
  <dc:creator>Sabine Dufaux</dc:creator>
  <dc:description/>
  <dc:language>en-US</dc:language>
  <cp:lastModifiedBy>Your User Name</cp:lastModifiedBy>
  <dcterms:modified xsi:type="dcterms:W3CDTF">2010-09-11T13:53:47Z</dcterms:modified>
  <cp:revision>19</cp:revision>
  <dc:subject/>
  <dc:title>Présentation PowerPoint</dc:title>
</cp:coreProperties>
</file>